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CC87-55F0-4297-8632-E1DA92E436C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F4B6-DBC5-45CB-BB10-FD511288CE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87440" y="1054080"/>
            <a:ext cx="8169120" cy="2176560"/>
            <a:chOff x="487440" y="1054080"/>
            <a:chExt cx="8169120" cy="217656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87440" y="1054080"/>
              <a:ext cx="8169120" cy="21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883120" y="47628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九       探索乐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5" name="AutoShape 508"/>
          <p:cNvGrpSpPr/>
          <p:nvPr/>
        </p:nvGrpSpPr>
        <p:grpSpPr>
          <a:xfrm>
            <a:off x="450720" y="974880"/>
            <a:ext cx="8248680" cy="2255760"/>
            <a:chOff x="450720" y="974880"/>
            <a:chExt cx="8248680" cy="2255760"/>
          </a:xfrm>
        </p:grpSpPr>
        <p:pic>
          <p:nvPicPr>
            <p:cNvPr id="56" name="AutoShape 508" descr=""/>
            <p:cNvPicPr/>
            <p:nvPr/>
          </p:nvPicPr>
          <p:blipFill>
            <a:blip r:embed="rId6"/>
            <a:stretch/>
          </p:blipFill>
          <p:spPr>
            <a:xfrm>
              <a:off x="450720" y="974880"/>
              <a:ext cx="824868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50" descr="나뭇잎2"/>
          <p:cNvPicPr/>
          <p:nvPr/>
        </p:nvPicPr>
        <p:blipFill>
          <a:blip r:embed="rId7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59" name="椭圆 40"/>
          <p:cNvGrpSpPr/>
          <p:nvPr/>
        </p:nvGrpSpPr>
        <p:grpSpPr>
          <a:xfrm>
            <a:off x="268200" y="1298520"/>
            <a:ext cx="451080" cy="444600"/>
            <a:chOff x="268200" y="1298520"/>
            <a:chExt cx="451080" cy="444600"/>
          </a:xfrm>
        </p:grpSpPr>
        <p:pic>
          <p:nvPicPr>
            <p:cNvPr id="60" name="椭圆 40" descr=""/>
            <p:cNvPicPr/>
            <p:nvPr/>
          </p:nvPicPr>
          <p:blipFill>
            <a:blip r:embed="rId8"/>
            <a:stretch/>
          </p:blipFill>
          <p:spPr>
            <a:xfrm>
              <a:off x="268200" y="1298520"/>
              <a:ext cx="451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椭圆 41"/>
          <p:cNvGrpSpPr/>
          <p:nvPr/>
        </p:nvGrpSpPr>
        <p:grpSpPr>
          <a:xfrm>
            <a:off x="268200" y="1938240"/>
            <a:ext cx="451080" cy="444600"/>
            <a:chOff x="268200" y="1938240"/>
            <a:chExt cx="451080" cy="444600"/>
          </a:xfrm>
        </p:grpSpPr>
        <p:pic>
          <p:nvPicPr>
            <p:cNvPr id="63" name="椭圆 41" descr=""/>
            <p:cNvPicPr/>
            <p:nvPr/>
          </p:nvPicPr>
          <p:blipFill>
            <a:blip r:embed="rId9"/>
            <a:stretch/>
          </p:blipFill>
          <p:spPr>
            <a:xfrm>
              <a:off x="268200" y="1938240"/>
              <a:ext cx="451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椭圆 42"/>
          <p:cNvGrpSpPr/>
          <p:nvPr/>
        </p:nvGrpSpPr>
        <p:grpSpPr>
          <a:xfrm>
            <a:off x="268200" y="2577960"/>
            <a:ext cx="451080" cy="446400"/>
            <a:chOff x="268200" y="2577960"/>
            <a:chExt cx="451080" cy="446400"/>
          </a:xfrm>
        </p:grpSpPr>
        <p:pic>
          <p:nvPicPr>
            <p:cNvPr id="66" name="椭圆 42" descr=""/>
            <p:cNvPicPr/>
            <p:nvPr/>
          </p:nvPicPr>
          <p:blipFill>
            <a:blip r:embed="rId10"/>
            <a:stretch/>
          </p:blipFill>
          <p:spPr>
            <a:xfrm>
              <a:off x="268200" y="2577960"/>
              <a:ext cx="45108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椭圆 43"/>
          <p:cNvGrpSpPr/>
          <p:nvPr/>
        </p:nvGrpSpPr>
        <p:grpSpPr>
          <a:xfrm>
            <a:off x="8418600" y="1298520"/>
            <a:ext cx="450720" cy="444600"/>
            <a:chOff x="8418600" y="1298520"/>
            <a:chExt cx="450720" cy="444600"/>
          </a:xfrm>
        </p:grpSpPr>
        <p:pic>
          <p:nvPicPr>
            <p:cNvPr id="69" name="椭圆 43" descr=""/>
            <p:cNvPicPr/>
            <p:nvPr/>
          </p:nvPicPr>
          <p:blipFill>
            <a:blip r:embed="rId11"/>
            <a:stretch/>
          </p:blipFill>
          <p:spPr>
            <a:xfrm>
              <a:off x="8418600" y="1298520"/>
              <a:ext cx="45072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椭圆 44"/>
          <p:cNvGrpSpPr/>
          <p:nvPr/>
        </p:nvGrpSpPr>
        <p:grpSpPr>
          <a:xfrm>
            <a:off x="8418600" y="1938240"/>
            <a:ext cx="450720" cy="444600"/>
            <a:chOff x="8418600" y="1938240"/>
            <a:chExt cx="450720" cy="444600"/>
          </a:xfrm>
        </p:grpSpPr>
        <p:pic>
          <p:nvPicPr>
            <p:cNvPr id="72" name="椭圆 44" descr=""/>
            <p:cNvPicPr/>
            <p:nvPr/>
          </p:nvPicPr>
          <p:blipFill>
            <a:blip r:embed="rId12"/>
            <a:stretch/>
          </p:blipFill>
          <p:spPr>
            <a:xfrm>
              <a:off x="8418600" y="1938240"/>
              <a:ext cx="45072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椭圆 45"/>
          <p:cNvGrpSpPr/>
          <p:nvPr/>
        </p:nvGrpSpPr>
        <p:grpSpPr>
          <a:xfrm>
            <a:off x="8418600" y="2577960"/>
            <a:ext cx="450720" cy="446400"/>
            <a:chOff x="8418600" y="2577960"/>
            <a:chExt cx="450720" cy="446400"/>
          </a:xfrm>
        </p:grpSpPr>
        <p:pic>
          <p:nvPicPr>
            <p:cNvPr id="75" name="椭圆 45" descr=""/>
            <p:cNvPicPr/>
            <p:nvPr/>
          </p:nvPicPr>
          <p:blipFill>
            <a:blip r:embed="rId13"/>
            <a:stretch/>
          </p:blipFill>
          <p:spPr>
            <a:xfrm>
              <a:off x="8418600" y="2577960"/>
              <a:ext cx="45072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3"/>
          <p:cNvSpPr/>
          <p:nvPr/>
        </p:nvSpPr>
        <p:spPr>
          <a:xfrm>
            <a:off x="4809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植树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10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12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矩形 12" descr=""/>
          <p:cNvPicPr/>
          <p:nvPr/>
        </p:nvPicPr>
        <p:blipFill>
          <a:blip r:embed="rId5"/>
          <a:stretch/>
        </p:blipFill>
        <p:spPr>
          <a:xfrm>
            <a:off x="1474920" y="1079640"/>
            <a:ext cx="620064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79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"/>
          <p:cNvSpPr/>
          <p:nvPr/>
        </p:nvSpPr>
        <p:spPr>
          <a:xfrm>
            <a:off x="1449360" y="2637000"/>
            <a:ext cx="6939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封闭图形中的植树等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敲钟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锯木头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爬楼梯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间隔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84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extBox 36"/>
          <p:cNvSpPr/>
          <p:nvPr/>
        </p:nvSpPr>
        <p:spPr>
          <a:xfrm>
            <a:off x="819000" y="1728720"/>
            <a:ext cx="74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一个圆形养鱼池，周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在它的四周每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杨树，一共可以栽多少棵杨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1908000" y="3159000"/>
            <a:ext cx="53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0÷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一共可以栽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棵杨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6"/>
          <p:cNvSpPr/>
          <p:nvPr/>
        </p:nvSpPr>
        <p:spPr>
          <a:xfrm>
            <a:off x="819000" y="1728720"/>
            <a:ext cx="74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一个长方形的舞台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、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在它的四周每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椅子，一共需要准备多少把椅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/>
          <p:cNvSpPr/>
          <p:nvPr/>
        </p:nvSpPr>
        <p:spPr>
          <a:xfrm>
            <a:off x="1908000" y="3159000"/>
            <a:ext cx="53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)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÷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把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一共需要准备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把椅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6"/>
          <p:cNvSpPr/>
          <p:nvPr/>
        </p:nvSpPr>
        <p:spPr>
          <a:xfrm>
            <a:off x="819000" y="1728720"/>
            <a:ext cx="74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钟楼的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整需敲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秒钟敲完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整需敲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，需要多长时间敲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1908000" y="3159000"/>
            <a:ext cx="53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÷(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)×(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需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秒敲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6"/>
          <p:cNvSpPr/>
          <p:nvPr/>
        </p:nvSpPr>
        <p:spPr>
          <a:xfrm>
            <a:off x="819000" y="1728720"/>
            <a:ext cx="74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一根木头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准备把它锯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段，每锯断一次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钟，锯完这根木头一共要用多少分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1908000" y="3159000"/>
            <a:ext cx="53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)×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锯完这根木头一共要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6"/>
          <p:cNvSpPr/>
          <p:nvPr/>
        </p:nvSpPr>
        <p:spPr>
          <a:xfrm>
            <a:off x="819000" y="1728720"/>
            <a:ext cx="74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某人家住在八楼，他从一楼走到三楼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秒。照这样计算，他走到八楼还需多少秒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1908000" y="3159000"/>
            <a:ext cx="53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6÷(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×(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他走到八楼还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6"/>
          <p:cNvSpPr/>
          <p:nvPr/>
        </p:nvSpPr>
        <p:spPr>
          <a:xfrm>
            <a:off x="819000" y="1728720"/>
            <a:ext cx="749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在江堤大坝上，每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栽一棵杨树。王大爷每天傍晚去江堤大坝上散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从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树走到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树处，他走了多少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然后他又走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这时他走到第几棵树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1908000" y="3357720"/>
            <a:ext cx="53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×(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他走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1908000" y="4890960"/>
            <a:ext cx="53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0÷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这时他走到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棵树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101" name="圆角矩形 12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TextBox 36"/>
          <p:cNvSpPr/>
          <p:nvPr/>
        </p:nvSpPr>
        <p:spPr>
          <a:xfrm>
            <a:off x="819000" y="1728720"/>
            <a:ext cx="749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在学校的走廊两侧挂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人名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每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挂一幅，两端都挂，一共挂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人名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这条走廊长多少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9"/>
          <p:cNvSpPr/>
          <p:nvPr/>
        </p:nvSpPr>
        <p:spPr>
          <a:xfrm>
            <a:off x="1908000" y="3689280"/>
            <a:ext cx="53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幅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)×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3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这条走廊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User</cp:lastModifiedBy>
  <dcterms:modified xsi:type="dcterms:W3CDTF">2017-11-19T07:32:51Z</dcterms:modified>
  <cp:revision>36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